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082-10DE-488B-B632-0C1CCEB5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D5D-9AE9-424F-AEA4-A7F1C2D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039-A8B2-4AA5-8BB7-09141006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8C5-780B-42CA-AE14-CA494B35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9E4-2CAD-42B5-B26C-FAE84DD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BC0-DC62-4047-8740-5F4D1C59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8D5-D653-45FA-A1C4-D1A25C6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03C-11B7-4376-ADFB-744EC1B4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95B-1DC6-4895-B45B-B6C9E95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8D3-1AC7-4BC7-AA9D-7AE59C9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6DF-33F6-4B3F-B15D-555F4AB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3A5-8302-4940-973C-F60141F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A47-16D6-4B3D-BFC3-79E65973FE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601992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9"/>
          <p:cNvSpPr/>
          <p:nvPr/>
        </p:nvSpPr>
        <p:spPr>
          <a:xfrm>
            <a:off x="5943600" y="41911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4"/>
          <p:cNvSpPr/>
          <p:nvPr/>
        </p:nvSpPr>
        <p:spPr>
          <a:xfrm>
            <a:off x="4724280" y="914400"/>
            <a:ext cx="3886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4920" y="213372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ochabend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4. April 2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füllte Pfannku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 Rico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alat 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bratenen Champign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ntenbrust mit Orangen-Oliven-Sa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reme-Po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spresso-Cremetört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fiteroles mit Vanillecr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1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1440000" y="57636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1332000" y="161928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Microsoft-Konto</cp:lastModifiedBy>
  <cp:lastPrinted>2017-02-08T04:54:43Z</cp:lastPrinted>
  <dcterms:modified xsi:type="dcterms:W3CDTF">2024-04-09T16:45:53Z</dcterms:modified>
  <cp:revision>21</cp:revision>
  <dc:subject/>
  <dc:title>PowerPoint-Präsentation</dc:title>
</cp:coreProperties>
</file>