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243C-2A11-40CE-BBD8-13C6A2CA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241-DE9C-408F-9511-FFD35D55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7A27-DC23-48B2-A6EE-E9869778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83D9-07E5-4309-9932-C73BD3D0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944C-E0DF-4EF0-BD82-52FDFA9D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902-B486-40A6-A906-39990D99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920-54F5-4225-8486-7BB36A9C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21C0-DA19-4C89-B18C-065A6944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5C1B-34CA-4D94-888F-9585D101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5A5-71FC-4BEC-A208-CA55D39E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AB82-0257-4AF2-A7B0-52381B19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578-D9A2-488D-AFE5-13B136D8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E2B5-F729-423D-93D3-F57EE2EC1D4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3"/>
          <p:cNvGrpSpPr/>
          <p:nvPr/>
        </p:nvGrpSpPr>
        <p:grpSpPr>
          <a:xfrm>
            <a:off x="838080" y="6095880"/>
            <a:ext cx="3995640" cy="381240"/>
            <a:chOff x="838080" y="6095880"/>
            <a:chExt cx="3995640" cy="381240"/>
          </a:xfrm>
        </p:grpSpPr>
        <p:sp>
          <p:nvSpPr>
            <p:cNvPr id="42" name="Rectangle 2"/>
            <p:cNvSpPr/>
            <p:nvPr/>
          </p:nvSpPr>
          <p:spPr>
            <a:xfrm>
              <a:off x="973800" y="6134760"/>
              <a:ext cx="204840" cy="17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3"/>
            <p:cNvSpPr/>
            <p:nvPr/>
          </p:nvSpPr>
          <p:spPr>
            <a:xfrm>
              <a:off x="1152720" y="6134760"/>
              <a:ext cx="153720" cy="1720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4"/>
            <p:cNvSpPr/>
            <p:nvPr/>
          </p:nvSpPr>
          <p:spPr>
            <a:xfrm>
              <a:off x="1031760" y="6287760"/>
              <a:ext cx="197280" cy="172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5"/>
            <p:cNvSpPr/>
            <p:nvPr/>
          </p:nvSpPr>
          <p:spPr>
            <a:xfrm>
              <a:off x="1204560" y="6287760"/>
              <a:ext cx="172440" cy="172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6"/>
            <p:cNvSpPr/>
            <p:nvPr/>
          </p:nvSpPr>
          <p:spPr>
            <a:xfrm>
              <a:off x="838080" y="6261480"/>
              <a:ext cx="262080" cy="15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>
              <a:off x="1135080" y="6095880"/>
              <a:ext cx="14760" cy="381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985680" y="6382440"/>
              <a:ext cx="3848040" cy="11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Text Box 17"/>
          <p:cNvSpPr/>
          <p:nvPr/>
        </p:nvSpPr>
        <p:spPr>
          <a:xfrm>
            <a:off x="1221480" y="6248520"/>
            <a:ext cx="28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PK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8" descr="C:\A_Privat\Prv\Divers\Hobbyköche\Signet\Signet_Kochklub.JPG"/>
          <p:cNvPicPr/>
          <p:nvPr/>
        </p:nvPicPr>
        <p:blipFill>
          <a:blip r:embed="rId1"/>
          <a:stretch/>
        </p:blipFill>
        <p:spPr>
          <a:xfrm>
            <a:off x="5638680" y="182880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4"/>
          <p:cNvSpPr/>
          <p:nvPr/>
        </p:nvSpPr>
        <p:spPr>
          <a:xfrm>
            <a:off x="5715000" y="44197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a forchet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0" descr="C:\A_Privat\Prv\Divers\Hobbyköche\Signet\Signet_Kochklub.JPG"/>
          <p:cNvPicPr/>
          <p:nvPr/>
        </p:nvPicPr>
        <p:blipFill>
          <a:blip r:embed="rId1"/>
          <a:stretch/>
        </p:blipFill>
        <p:spPr>
          <a:xfrm>
            <a:off x="533520" y="4572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1"/>
          <p:cNvSpPr/>
          <p:nvPr/>
        </p:nvSpPr>
        <p:spPr>
          <a:xfrm>
            <a:off x="457200" y="1447920"/>
            <a:ext cx="1066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la forche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538280" y="2590920"/>
            <a:ext cx="18525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Menü v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29. Juni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sammengestell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Guido Lüchin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7960" y="1981080"/>
            <a:ext cx="406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enchel-Couscous-Salat mit Granatapfe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revetten-Sagana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trecote Double mit Haselnusssauce und Rosmarinkartoffel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imbeercreme im G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4:46:12Z</dcterms:created>
  <dc:creator>P. Kocher</dc:creator>
  <dc:description/>
  <dc:language>en-US</dc:language>
  <cp:lastModifiedBy>Guido Lüchinger</cp:lastModifiedBy>
  <dcterms:modified xsi:type="dcterms:W3CDTF">2022-06-19T14:39:32Z</dcterms:modified>
  <cp:revision>32</cp:revision>
  <dc:subject/>
  <dc:title>PowerPoint-Präsentation</dc:title>
</cp:coreProperties>
</file>