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AD4-C69B-4878-B963-AD0CEBC0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99F-5D5C-4366-BAD8-50E7DDA0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040-8B05-4DC4-94B3-7F37CFB7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F8B-7C5F-4260-B95A-96638DCA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9FE-0D07-4B59-AE6C-D1D33CEB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B63-EEDD-45B8-91C4-789B935E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64C-66A7-4708-B894-9FDD6FC4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37D-A6F3-40A2-85E2-47EF3E15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7CB-588B-42F4-B23A-8FD710EA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2BE-9288-46C9-BEE0-336A6D5C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12B-62AF-4433-BB6F-D0130483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F87-77C0-465F-9D8A-1C843C7A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9478-A0FF-48CC-939F-DAFEA9AB42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3"/>
          <p:cNvGrpSpPr/>
          <p:nvPr/>
        </p:nvGrpSpPr>
        <p:grpSpPr>
          <a:xfrm>
            <a:off x="838080" y="6095880"/>
            <a:ext cx="3995640" cy="381240"/>
            <a:chOff x="838080" y="6095880"/>
            <a:chExt cx="3995640" cy="381240"/>
          </a:xfrm>
        </p:grpSpPr>
        <p:sp>
          <p:nvSpPr>
            <p:cNvPr id="42" name="Rectangle 2"/>
            <p:cNvSpPr/>
            <p:nvPr/>
          </p:nvSpPr>
          <p:spPr>
            <a:xfrm>
              <a:off x="973800" y="6134760"/>
              <a:ext cx="204840" cy="17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3"/>
            <p:cNvSpPr/>
            <p:nvPr/>
          </p:nvSpPr>
          <p:spPr>
            <a:xfrm>
              <a:off x="1152720" y="6134760"/>
              <a:ext cx="153720" cy="1720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1031760" y="6287760"/>
              <a:ext cx="197280" cy="172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1204560" y="6287760"/>
              <a:ext cx="172440" cy="172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838080" y="6261480"/>
              <a:ext cx="262080" cy="15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1135080" y="6095880"/>
              <a:ext cx="14760" cy="38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985680" y="6382440"/>
              <a:ext cx="3848040" cy="11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Text Box 17"/>
          <p:cNvSpPr/>
          <p:nvPr/>
        </p:nvSpPr>
        <p:spPr>
          <a:xfrm>
            <a:off x="1221480" y="6248520"/>
            <a:ext cx="28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8" descr="C:\A_Privat\Prv\Divers\Hobbyköche\Signet\Signet_Kochklub.JPG"/>
          <p:cNvPicPr/>
          <p:nvPr/>
        </p:nvPicPr>
        <p:blipFill>
          <a:blip r:embed="rId1"/>
          <a:stretch/>
        </p:blipFill>
        <p:spPr>
          <a:xfrm>
            <a:off x="5638680" y="18288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4"/>
          <p:cNvSpPr/>
          <p:nvPr/>
        </p:nvSpPr>
        <p:spPr>
          <a:xfrm>
            <a:off x="5715000" y="44197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a forch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0" descr="C:\A_Privat\Prv\Divers\Hobbyköche\Signet\Signet_Kochklub.JPG"/>
          <p:cNvPicPr/>
          <p:nvPr/>
        </p:nvPicPr>
        <p:blipFill>
          <a:blip r:embed="rId1"/>
          <a:stretch/>
        </p:blipFill>
        <p:spPr>
          <a:xfrm>
            <a:off x="533520" y="4572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1"/>
          <p:cNvSpPr/>
          <p:nvPr/>
        </p:nvSpPr>
        <p:spPr>
          <a:xfrm>
            <a:off x="457200" y="1447920"/>
            <a:ext cx="1066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la forch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499400" y="2590920"/>
            <a:ext cx="193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enu v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ittw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26. Februar 20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765000"/>
            <a:ext cx="40669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itronen-Lauch Sup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t Okara Teigsta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intergemüse Ta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t Rauchlac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mmhuft mit Safran Zwieb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laue Bratkartoff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angencrè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t Orangental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4:46:12Z</dcterms:created>
  <dc:creator>P. Kocher</dc:creator>
  <dc:description/>
  <dc:language>en-US</dc:language>
  <cp:lastModifiedBy>Martin Grob</cp:lastModifiedBy>
  <dcterms:modified xsi:type="dcterms:W3CDTF">2025-02-16T08:49:23Z</dcterms:modified>
  <cp:revision>33</cp:revision>
  <dc:subject/>
  <dc:title>PowerPoint-Präsentation</dc:title>
</cp:coreProperties>
</file>