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08C-C040-4860-903D-37B93860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8EE-6A21-4408-9975-66B3D3B4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8AF-FAF6-4D2E-9830-A6BCB47C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068-AB0B-4D03-95FF-2FE9293F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B96-830C-4470-ACCE-54E4DA5B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99A-4CCB-46F6-B786-DF158439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011-9D83-461C-BD6E-901EF6ED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426-E589-48DA-AD39-662D3E9E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DFA-B9C6-4C46-B8C0-6A4B0B9F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D29-9191-4E0B-9B8E-F404CB2C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658-6214-481F-94EE-922DE5B5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41D-4D16-4663-BF51-2C23594E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6523-A5EF-4090-810F-EA6F11B3BE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3"/>
          <p:cNvGrpSpPr/>
          <p:nvPr/>
        </p:nvGrpSpPr>
        <p:grpSpPr>
          <a:xfrm>
            <a:off x="838080" y="6095880"/>
            <a:ext cx="3995640" cy="381240"/>
            <a:chOff x="838080" y="6095880"/>
            <a:chExt cx="3995640" cy="381240"/>
          </a:xfrm>
        </p:grpSpPr>
        <p:sp>
          <p:nvSpPr>
            <p:cNvPr id="42" name="Rectangle 2"/>
            <p:cNvSpPr/>
            <p:nvPr/>
          </p:nvSpPr>
          <p:spPr>
            <a:xfrm>
              <a:off x="973800" y="6134760"/>
              <a:ext cx="204840" cy="17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3"/>
            <p:cNvSpPr/>
            <p:nvPr/>
          </p:nvSpPr>
          <p:spPr>
            <a:xfrm>
              <a:off x="1152720" y="6134760"/>
              <a:ext cx="153720" cy="1720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4"/>
            <p:cNvSpPr/>
            <p:nvPr/>
          </p:nvSpPr>
          <p:spPr>
            <a:xfrm>
              <a:off x="1031760" y="6287760"/>
              <a:ext cx="197280" cy="172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1204560" y="6287760"/>
              <a:ext cx="172440" cy="172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838080" y="6261480"/>
              <a:ext cx="262080" cy="15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1135080" y="6095880"/>
              <a:ext cx="14760" cy="381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985680" y="6382440"/>
              <a:ext cx="3848040" cy="11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Text Box 17"/>
          <p:cNvSpPr/>
          <p:nvPr/>
        </p:nvSpPr>
        <p:spPr>
          <a:xfrm>
            <a:off x="1221480" y="6248520"/>
            <a:ext cx="28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P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8" descr="C:\A_Privat\Prv\Divers\Hobbyköche\Signet\Signet_Kochklub.JPG"/>
          <p:cNvPicPr/>
          <p:nvPr/>
        </p:nvPicPr>
        <p:blipFill>
          <a:blip r:embed="rId1"/>
          <a:stretch/>
        </p:blipFill>
        <p:spPr>
          <a:xfrm>
            <a:off x="5638680" y="18288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4"/>
          <p:cNvSpPr/>
          <p:nvPr/>
        </p:nvSpPr>
        <p:spPr>
          <a:xfrm>
            <a:off x="5715000" y="44197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a forch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0" descr="C:\A_Privat\Prv\Divers\Hobbyköche\Signet\Signet_Kochklub.JPG"/>
          <p:cNvPicPr/>
          <p:nvPr/>
        </p:nvPicPr>
        <p:blipFill>
          <a:blip r:embed="rId1"/>
          <a:stretch/>
        </p:blipFill>
        <p:spPr>
          <a:xfrm>
            <a:off x="533520" y="4572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1"/>
          <p:cNvSpPr/>
          <p:nvPr/>
        </p:nvSpPr>
        <p:spPr>
          <a:xfrm>
            <a:off x="457200" y="1447920"/>
            <a:ext cx="1066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la forch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689840" y="2590920"/>
            <a:ext cx="154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enu v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ittw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28. Juni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7960" y="765000"/>
            <a:ext cx="40669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leine Fisch-Gemüse-Sup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hlrabi-Carpac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t Haselnuss und Kräutersa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füllte Kalbfleischroul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t Rosmarinkartoffe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rinierte Erdbeer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t süssem Basilikum-P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icotta-Erdeeren-Mu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4:46:12Z</dcterms:created>
  <dc:creator>P. Kocher</dc:creator>
  <dc:description/>
  <dc:language>en-US</dc:language>
  <cp:lastModifiedBy>Martin</cp:lastModifiedBy>
  <dcterms:modified xsi:type="dcterms:W3CDTF">2023-06-18T19:41:13Z</dcterms:modified>
  <cp:revision>32</cp:revision>
  <dc:subject/>
  <dc:title>PowerPoint-Präsentation</dc:title>
</cp:coreProperties>
</file>