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A44A-3A50-42C7-915B-8E668A81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B425-B9D8-42B3-B0CE-AC7469DD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ED4D-EBEB-4ACE-A811-E6A3EAF6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54CB-213D-4162-BD3A-B5056D76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BE0E-000E-4588-B21F-35EB919B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81B1-245E-454E-9834-08484324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5B36-6198-4216-97D0-6E743411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8398-E6C0-4CDA-BF74-58338C69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8CFF-EF5C-485D-8F2C-F733650D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1C4B-D1D4-4564-8050-82E6847A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A961-9521-49C4-8882-E4FA4FDE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854F-0B8A-4AE5-8D08-AE755714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A863-E61C-461B-AECB-924FDE69AF5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3"/>
          <p:cNvGrpSpPr/>
          <p:nvPr/>
        </p:nvGrpSpPr>
        <p:grpSpPr>
          <a:xfrm>
            <a:off x="838080" y="6095880"/>
            <a:ext cx="3995640" cy="381240"/>
            <a:chOff x="838080" y="6095880"/>
            <a:chExt cx="3995640" cy="381240"/>
          </a:xfrm>
        </p:grpSpPr>
        <p:sp>
          <p:nvSpPr>
            <p:cNvPr id="42" name="Rectangle 2"/>
            <p:cNvSpPr/>
            <p:nvPr/>
          </p:nvSpPr>
          <p:spPr>
            <a:xfrm>
              <a:off x="973800" y="6134760"/>
              <a:ext cx="204840" cy="17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Rectangle 3"/>
            <p:cNvSpPr/>
            <p:nvPr/>
          </p:nvSpPr>
          <p:spPr>
            <a:xfrm>
              <a:off x="1152720" y="6134760"/>
              <a:ext cx="153720" cy="1720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4"/>
            <p:cNvSpPr/>
            <p:nvPr/>
          </p:nvSpPr>
          <p:spPr>
            <a:xfrm>
              <a:off x="1031760" y="6287760"/>
              <a:ext cx="197280" cy="172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5"/>
            <p:cNvSpPr/>
            <p:nvPr/>
          </p:nvSpPr>
          <p:spPr>
            <a:xfrm>
              <a:off x="1204560" y="6287760"/>
              <a:ext cx="172440" cy="172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6"/>
            <p:cNvSpPr/>
            <p:nvPr/>
          </p:nvSpPr>
          <p:spPr>
            <a:xfrm>
              <a:off x="838080" y="6261480"/>
              <a:ext cx="262080" cy="15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7"/>
            <p:cNvSpPr/>
            <p:nvPr/>
          </p:nvSpPr>
          <p:spPr>
            <a:xfrm>
              <a:off x="1135080" y="6095880"/>
              <a:ext cx="14760" cy="381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985680" y="6382440"/>
              <a:ext cx="3848040" cy="11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Text Box 17"/>
          <p:cNvSpPr/>
          <p:nvPr/>
        </p:nvSpPr>
        <p:spPr>
          <a:xfrm>
            <a:off x="1221480" y="6248520"/>
            <a:ext cx="28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PK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8" descr="C:\A_Privat\Prv\Divers\Hobbyköche\Signet\Signet_Kochklub.JPG"/>
          <p:cNvPicPr/>
          <p:nvPr/>
        </p:nvPicPr>
        <p:blipFill>
          <a:blip r:embed="rId1"/>
          <a:stretch/>
        </p:blipFill>
        <p:spPr>
          <a:xfrm>
            <a:off x="5638680" y="182880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4"/>
          <p:cNvSpPr/>
          <p:nvPr/>
        </p:nvSpPr>
        <p:spPr>
          <a:xfrm>
            <a:off x="5715000" y="44197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a forchet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0" descr="C:\A_Privat\Prv\Divers\Hobbyköche\Signet\Signet_Kochklub.JPG"/>
          <p:cNvPicPr/>
          <p:nvPr/>
        </p:nvPicPr>
        <p:blipFill>
          <a:blip r:embed="rId1"/>
          <a:stretch/>
        </p:blipFill>
        <p:spPr>
          <a:xfrm>
            <a:off x="533520" y="45720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1"/>
          <p:cNvSpPr/>
          <p:nvPr/>
        </p:nvSpPr>
        <p:spPr>
          <a:xfrm>
            <a:off x="457200" y="1447920"/>
            <a:ext cx="10666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la forchet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1499400" y="2590920"/>
            <a:ext cx="193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Menu v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23. Februar 2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7960" y="765000"/>
            <a:ext cx="40669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nf Linsen mit Wachtelspiege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arotten-Vanille Süpp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it Anis und Jakobsmusch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intersalat m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rapefruit und caramelisierten Nüs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ackbraten mit Pommes duch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ohlgemüse Due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rangenroul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4:46:12Z</dcterms:created>
  <dc:creator>P. Kocher</dc:creator>
  <dc:description/>
  <dc:language>en-US</dc:language>
  <cp:lastModifiedBy>Martin</cp:lastModifiedBy>
  <dcterms:modified xsi:type="dcterms:W3CDTF">2022-02-14T19:44:11Z</dcterms:modified>
  <cp:revision>31</cp:revision>
  <dc:subject/>
  <dc:title>PowerPoint-Präsentation</dc:title>
</cp:coreProperties>
</file>