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F5E-CD0E-45FA-A5B0-2895C138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C0C-23C7-4506-9458-12931B6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120-F1EE-4371-9889-B4CC0D36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F6B-1D55-46A8-8EBB-43157FDB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C36-9F17-4CDD-9280-62B8393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3CF-A5C9-48F1-8A9D-5EFC588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CA8-15F1-417A-BA8F-007CE975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28C-EA14-46A4-83D3-DD64F75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3B-F331-4554-A480-9A6EAA0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442-5816-40C2-981F-8FF0143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D49-E033-4346-89A2-6F87E38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B5E-4161-4AA3-9766-E2C3D3D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B0D6-B095-402E-889D-BF264909A9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838080" y="6095880"/>
            <a:ext cx="3995640" cy="381240"/>
            <a:chOff x="838080" y="6095880"/>
            <a:chExt cx="3995640" cy="381240"/>
          </a:xfrm>
        </p:grpSpPr>
        <p:sp>
          <p:nvSpPr>
            <p:cNvPr id="42" name="Rectangle 2"/>
            <p:cNvSpPr/>
            <p:nvPr/>
          </p:nvSpPr>
          <p:spPr>
            <a:xfrm>
              <a:off x="973800" y="6134760"/>
              <a:ext cx="204840" cy="17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152720" y="6134760"/>
              <a:ext cx="153720" cy="172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031760" y="6287760"/>
              <a:ext cx="197280" cy="17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204560" y="6287760"/>
              <a:ext cx="172440" cy="172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838080" y="6261480"/>
              <a:ext cx="262080" cy="15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135080" y="6095880"/>
              <a:ext cx="14760" cy="38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985680" y="6382440"/>
              <a:ext cx="3848040" cy="11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17"/>
          <p:cNvSpPr/>
          <p:nvPr/>
        </p:nvSpPr>
        <p:spPr>
          <a:xfrm>
            <a:off x="1221480" y="6248520"/>
            <a:ext cx="28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8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638680" y="1828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>
            <a:off x="5715000" y="4419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1"/>
          <p:cNvSpPr/>
          <p:nvPr/>
        </p:nvSpPr>
        <p:spPr>
          <a:xfrm>
            <a:off x="457200" y="144792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670760" y="259092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enu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27. April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765000"/>
            <a:ext cx="406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chstar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 Kartoffel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argelsticks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alnüssen und Parme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bsensup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Garnelen und Pfeffermin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orgonzolariso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Radicchio und Lammfi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alinen-Parfait by Cami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46:12Z</dcterms:created>
  <dc:creator>P. Kocher</dc:creator>
  <dc:description/>
  <dc:language>en-US</dc:language>
  <cp:lastModifiedBy>R</cp:lastModifiedBy>
  <cp:lastPrinted>2022-04-17T18:26:14Z</cp:lastPrinted>
  <dcterms:modified xsi:type="dcterms:W3CDTF">2022-04-17T18:26:58Z</dcterms:modified>
  <cp:revision>33</cp:revision>
  <dc:subject/>
  <dc:title>PowerPoint-Präsentation</dc:title>
</cp:coreProperties>
</file>